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move the slid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9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EC43-0AFE-460F-A17E-A8B9F783F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1E9F-0006-4667-8D65-A769B4BC71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19A5-D79F-4987-9CBF-B97626BE23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C877-0E56-44A2-AD39-DA2BEE919D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F848-A760-4888-9CEA-E842E88EE6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FB8F-38FF-4692-8972-D216F104B6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42CA-7E03-4B52-BC11-40CB897FA3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F54F-8C55-47E8-9CCC-9F9DCB7B97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2A59-A5C2-44D9-9B02-7F236E348F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05D1-D634-40AF-877D-09FD2EEE7A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0503-E473-4478-A91B-A1BBA09DED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4090-1458-4032-898D-A3578F5406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B84E-24E5-453F-8A18-BC3A15C630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6555-AAB5-4567-A1B1-537C5B68F8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1F6B-BD31-40EF-A0DA-DD919D4982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61F1-2403-43A2-B8AA-36B7341E7D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1228-8236-43E2-A534-5ED0FFAB64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ADD8-FFDB-4A8D-A74E-BB055C5EBB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109C-9348-4E19-9868-2AF48B804A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0B7B-7F0E-4BBB-9A36-6797A6F393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02E1-357E-4644-991F-645CDBF703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1B4C-950B-4E16-8268-8CA7FA5E22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3DE5-7315-48BF-8B90-54806D1767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4160" y="685800"/>
            <a:ext cx="4554360" cy="3416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633F-9F12-492C-AD5B-C3D99202FA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D238-E53C-49ED-88F7-78D27069F35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96B8-F72F-43A0-A79B-408EBD4F7D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6DD-AEE9-4D93-ADD1-DDFE87F9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DD1-E564-4A0E-A105-989691F2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2959B6-20A1-48E5-8FD2-58F8572F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311FA-1A24-499D-B791-52AD227B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F10B5-4214-4586-85D4-1B2C56D3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26813-0C09-4045-B1C0-C2D18000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3B645-48EA-402F-BB11-A3F2ECF9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C1000-5334-4E4F-9963-93B6FC97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9F688-372C-4EE7-92FB-DD24A7D7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A06D1-B2B1-4A49-983F-A46B9567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E4DBC-96FF-4746-AFE7-8DFCA5F1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46C00-3892-4BF3-A9C6-B1C51EABBD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527-D7DE-4A02-9FBF-E1B82D89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A1935-5DD2-4FA0-9567-509D4030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8A093-6A9F-43F8-AD06-B3DD89BE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85B01-8093-4E94-9896-3E75A993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FEDC1-C143-4D2F-950A-0346AE40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C776D-E6DC-47F2-A4E9-C5A38E57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29E2F-0AF6-48AC-BEC0-8BDACD51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0F867-220E-486B-8C68-0A77027C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BA9BC-9081-4787-A21F-AE02290A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36F6F-DA8B-4481-874C-A9407304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A3897-2F57-44BB-80C1-02FF351D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BE0-72C4-480E-B97D-3C6E6BA9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E7B33-AFE6-4B93-8841-A117F2BEEE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ABC-75E1-490D-A8FD-CF06C3D7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07D-4B4C-4DC9-88A4-CAC8A717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BF2D9D-D361-4448-9409-E0E58A5C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B2F9DA-4820-478C-8DD1-4650AD08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4875B4-8370-49DD-876D-7C6A915C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5B7-38D6-4635-83D1-0AD3E2CF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F5D1C1-43AD-4D1C-925E-8B6210F0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0E2C2-3E30-4751-865C-E243C646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235C26-2C94-41A6-9A07-82843764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AC0AA-588D-4925-84A8-5C1753FB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066AAB-28E9-4917-92D7-292805DE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179D69-7A90-4917-BE93-8091C9C5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619747-C3BA-45FC-9B3C-4907CAE1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04573C-0EF8-4BEC-98C8-88CAEB7D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7FE35B-F829-4112-A6BA-4D92FDF9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E8AEE2-3E7C-44BC-8A31-36D29D09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8C8-974A-4E94-A25C-BB228A82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E5B820-4CB2-477B-813D-AB777F39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2D546B-08BB-475F-9460-EDF3EB21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F9E8CD-89F6-41DD-BA2A-C82210AE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585DCE-80A0-47BF-8E18-9AA122DC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E49A5A-462C-48B4-BD3E-B1A57FF7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316EBA-52EC-4F5E-AF5B-767C59C2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31418C-D94B-4D36-B116-C3450E5E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CA7B68-2BE5-4E94-92A7-9CC4D668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7CBE77-8422-42CD-A93E-D05F9FEC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11CC1B-836C-4A23-A6BD-C022F27C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750-6977-4EA3-894C-1DAB0472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38903F-3AE8-4F3B-B1A5-C7F9D46A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C5F5F8-007C-4C68-9459-2AB325BA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7B379B-85EA-4817-B1FB-57D52B1C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900DB8-B639-445E-849C-B80FA043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0AFDB2-C323-4BC0-AD47-2BC4FB85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1FB58F-FD72-4C12-B1FB-64704AB3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4811B4-DAB0-43D0-8376-8FDADFAE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676F8F-2B01-46CD-9A78-2E45D372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B12390-EFE7-43C5-9521-DC0EB188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111DDC-CA14-47D4-87A7-575B4B17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4CC-61B7-4859-AA7A-7AA5BADD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68A456-EEBC-470A-B48D-7ABEBD26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D82BE0-89D6-4576-8FEE-4C5A4E31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AAA804-6241-4196-A7C4-169327BB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84CA0D-C851-4DD8-953C-6E681DBF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A28CC5-2BAD-44EF-9090-FC7D77CD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13535E-2682-42FA-96F9-50FA1286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23D488-F603-4E13-9D82-78A3ECF5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9668C7-F05D-40D3-9611-CFBEF36D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66F6F4-24AE-4B1E-8317-6C36AEB3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A47851-6CF6-4634-8203-57481D77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2C4D-2323-48D4-9BA2-65873285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6CB6B4-50CF-48EC-A729-3B7337D5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79E1D7-ADAD-47B7-B299-294AD7E2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0BB405-3F98-4A10-8515-0CF8B8FF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147200-EAD1-41AD-8528-BE362D6F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D83F26-5031-4E44-A4DC-525E5DCC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79B514-1659-4370-ABD8-ED6D9E4C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3417AB-0DCF-4B49-B893-6C5E4C60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D005D2-D722-4BA6-8807-0441CD75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193E21-9736-4695-8F9D-9C3B0803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0B41ED-46DC-48BD-A940-6D9757A1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CA3-87FC-49A6-9D43-F554229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8934E8-3B9E-4763-8139-8709C6BE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402088-9236-40CD-BB6F-092B4303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CAB3D9-E453-4B47-BCD4-FF052307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44AF88-670D-4BCD-BFCF-94B8A92A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754825-5C40-4F4C-9520-C19830C5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A6888A-2A2A-4A99-B06A-BA50A094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9677CB-B237-4BE0-B9B6-B85E25C9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8910B-6EF9-4BB6-8EA3-976BC175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7B7CD-C1D0-464C-8597-ACEF1CC5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D04F7-B070-4AB6-ABBB-A1C84860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B041-1415-4318-AFDF-7F09A93D5C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82C8-FD9A-44B4-82A6-6F1AF7B6AD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AC7B-E962-4294-BBB0-9B9BCDF848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BA10-99A4-41AF-B583-6E94BA6374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F7C5-A2FD-476A-BE59-1ED3960FDEEB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1018-4164-4811-BA1F-44FE11D011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1BE0-E8C2-4774-8600-E7CC715B9A80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8952-25C2-434C-880A-5848BBE637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94431"/>
                </a:solidFill>
                <a:latin typeface="Comic Sans MS"/>
              </a:rPr>
              <a:t>Evolution</a:t>
            </a:r>
            <a:endParaRPr b="0" lang="en-US" sz="8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52388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Diversity of Life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531D-E6FA-4C98-A09F-F6DCFB2E156A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4640" y="304920"/>
            <a:ext cx="7612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ample of Binomial Nomenclatur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pic>
        <p:nvPicPr>
          <p:cNvPr id="439" name="Picture 5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148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Catastrophism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dea proposed by George Cuvie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udied fossils in sedimentary rock strata of Pari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ound some species completely disappeared in more recent layer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Catastrophism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282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ated that species disappear due to a catastrophic event of the earth’s crust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. (volcano, earthquake, flood, etc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44" name="Picture 4" descr="cuvier"/>
          <p:cNvPicPr/>
          <p:nvPr/>
        </p:nvPicPr>
        <p:blipFill>
          <a:blip r:embed="rId1"/>
          <a:stretch/>
        </p:blipFill>
        <p:spPr>
          <a:xfrm>
            <a:off x="6012000" y="1905120"/>
            <a:ext cx="2912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Hutton’s Theory of Geological Chang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052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James Hutton, 1795, Scottish geologis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escribed the geological forces that have changed life on earth over millions of years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(erosion, earthquakes, volcanoes…)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Hutton’s Theory of Geological Chang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0520" y="1828440"/>
            <a:ext cx="5410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anges in Earth’s crust are due to slow, continuous process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idea is known as: Gradualis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49" name="Picture 4" descr="hutton"/>
          <p:cNvPicPr/>
          <p:nvPr/>
        </p:nvPicPr>
        <p:blipFill>
          <a:blip r:embed="rId1"/>
          <a:stretch/>
        </p:blipFill>
        <p:spPr>
          <a:xfrm>
            <a:off x="5943600" y="1905120"/>
            <a:ext cx="2811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Charles Lyell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osed theory of Uniformintarian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ological processes occur at uniform (constant) rates building &amp; wearing down Earth’s cru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osed that the Earth was millions of years old instead of a few thousand years o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52" name="Picture 2" descr="22-x3-Lyell"/>
          <p:cNvPicPr/>
          <p:nvPr/>
        </p:nvPicPr>
        <p:blipFill>
          <a:blip r:embed="rId1"/>
          <a:stretch/>
        </p:blipFill>
        <p:spPr>
          <a:xfrm>
            <a:off x="6095880" y="1600200"/>
            <a:ext cx="27990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194431"/>
                </a:solidFill>
                <a:latin typeface="Comic Sans MS"/>
              </a:rPr>
              <a:t>Principles of Geology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6201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Published by Lyell just before the Beagle set sail &amp; it was read by Darwin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Explained geological processes that shaped the earth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Helped Darwin understand sea shells in the Andes Mountains at 12,000+ feet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Expanded Earth’s Age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Lamarck’s Theory of Evolu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Jean-Baptiste Lamarck, 180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e of first scientists to understand that change occurs over 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ated that changes are adaptations to the environment acquired in an organism’s life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aid acquired changes were passed to offsp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57" name="Picture 2" descr="22-x4-Lamarck"/>
          <p:cNvPicPr/>
          <p:nvPr/>
        </p:nvPicPr>
        <p:blipFill>
          <a:blip r:embed="rId1"/>
          <a:srcRect l="6324" t="0" r="7493" b="0"/>
          <a:stretch/>
        </p:blipFill>
        <p:spPr>
          <a:xfrm>
            <a:off x="6564240" y="1752480"/>
            <a:ext cx="2274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Lamarck</a:t>
            </a:r>
            <a:r>
              <a:rPr b="1" lang="ja-JP" sz="4800" spc="-1" strike="noStrike">
                <a:solidFill>
                  <a:srgbClr val="194431"/>
                </a:solidFill>
                <a:latin typeface="Comic Sans MS"/>
                <a:ea typeface="MS Mincho"/>
              </a:rPr>
              <a:t>’</a:t>
            </a: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s Theory of Evolu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28600" y="1641240"/>
            <a:ext cx="44956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dea called Law of Use and Disu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f a body part was used, it got strong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f body part was NOT used, then it deteriorat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60" name="Picture 4" descr="giraffenecks"/>
          <p:cNvPicPr/>
          <p:nvPr/>
        </p:nvPicPr>
        <p:blipFill>
          <a:blip r:embed="rId1"/>
          <a:stretch/>
        </p:blipFill>
        <p:spPr>
          <a:xfrm>
            <a:off x="4849920" y="2209680"/>
            <a:ext cx="3913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Lamarck’s Theory of Evolu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953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amples of Use and Disu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lacksmiths &amp; Their Sons (muscular arms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iraffe’s Necks Longer (from stretching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63" name="Picture 4" descr="Girafe"/>
          <p:cNvPicPr/>
          <p:nvPr/>
        </p:nvPicPr>
        <p:blipFill>
          <a:blip r:embed="rId1"/>
          <a:stretch/>
        </p:blipFill>
        <p:spPr>
          <a:xfrm>
            <a:off x="5676840" y="1523880"/>
            <a:ext cx="3238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Name two of the unique species that Darwin observed on his voyage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______________________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3CF5-06B1-4125-9CD8-EF061345B91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8" name="Picture 4" descr="giraffe_lamar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Lamarck’s Theory of Evolu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764640" y="1828800"/>
            <a:ext cx="76122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66ff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raits acquired during ones lifetime would be passed to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ffspr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71" name="Picture 4" descr="dobermans"/>
          <p:cNvPicPr/>
          <p:nvPr/>
        </p:nvPicPr>
        <p:blipFill>
          <a:blip r:embed="rId1"/>
          <a:stretch/>
        </p:blipFill>
        <p:spPr>
          <a:xfrm>
            <a:off x="1219320" y="4038480"/>
            <a:ext cx="6172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Lamarck’s Theory of Evolu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33520" y="1828800"/>
            <a:ext cx="78436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endency toward perfec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ganisms are continually changing and acquiring features that help them live more successfully in their environmen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ample: Bird ancestors desired to fly so they tried until wings develop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Lamarck’s Mistak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2070000"/>
            <a:ext cx="7920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d NOT Know how traits were inherited (Traits are passed through genes)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enes are not changed by activities in lif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ange through mutation occurs before an organism is born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Population Growth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Thomas Malthus, 1798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Economist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Observed babies being born faster than people were dying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Human population size is limited by resources such as the food supply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The Struggle for Existenc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764640" y="1828800"/>
            <a:ext cx="76122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lthus’ Influence on Darwin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326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igh Birth Rates &amp; Limited Resources Would Force Life &amp; Death Compet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ach Species Struggles For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326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326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ving Spa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326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t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0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1C7C-3176-47FF-BF74-78F5B469F7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Evolutionary Timelin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7A4A-7F0A-4E02-ADD5-D5A3CC63704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3" name="Picture 2" descr="22-01-DarwinHistorContext-L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How did the geologists of his time influence Darwin’s understanding of the world.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Why was Lamarck’s theory of evolution incorrect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______________________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Daily Objectiv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Describe the ideas that influenced Darwin’s scientific understanding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0826-EE51-4DB0-84A3-7B8BF225BF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304920" y="838080"/>
            <a:ext cx="4572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835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83500"/>
                </a:solidFill>
                <a:latin typeface="Comic Sans MS"/>
              </a:rPr>
              <a:t>Nothing in biology makes sense EXCEPT in the light of evolution.</a:t>
            </a:r>
            <a:r>
              <a:rPr b="1" lang="ja-JP" sz="3600" spc="-1" strike="noStrike">
                <a:solidFill>
                  <a:srgbClr val="f83500"/>
                </a:solidFill>
                <a:latin typeface="Comic Sans MS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3500"/>
                </a:solidFill>
                <a:latin typeface="Comic Sans MS"/>
              </a:rPr>
              <a:t>Theodosius Dobzhans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3623040" y="152280"/>
            <a:ext cx="17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8" name="Picture 4" descr="Fig2"/>
          <p:cNvPicPr/>
          <p:nvPr/>
        </p:nvPicPr>
        <p:blipFill>
          <a:blip r:embed="rId1"/>
          <a:srcRect l="15154" t="4224" r="12126" b="20226"/>
          <a:stretch/>
        </p:blipFill>
        <p:spPr>
          <a:xfrm>
            <a:off x="5105520" y="68580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5"/>
          <p:cNvSpPr/>
          <p:nvPr/>
        </p:nvSpPr>
        <p:spPr>
          <a:xfrm>
            <a:off x="4093200" y="617220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arles Darwin in later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Evolutionary Timelin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pic>
        <p:nvPicPr>
          <p:cNvPr id="431" name="Picture 2" descr="22-01-DarwinHistorContext-L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Early Ideas On Earth’s Organism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0880" y="1904760"/>
            <a:ext cx="45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Aristotle believed species were fixed creations arranged by their complex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Idea lasted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2000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year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This arrangement is like a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ladd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34" name="Picture 4" descr="aristotle"/>
          <p:cNvPicPr/>
          <p:nvPr/>
        </p:nvPicPr>
        <p:blipFill>
          <a:blip r:embed="rId1"/>
          <a:stretch/>
        </p:blipFill>
        <p:spPr>
          <a:xfrm>
            <a:off x="5105520" y="1752480"/>
            <a:ext cx="3430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Early Ideas On Earth’s Organism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2280" y="1904760"/>
            <a:ext cx="6096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nnaeus – First person to group similar organisms and assign them Latin nam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wo word name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51240" indent="-319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(Genus species)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Known as Binomial nomenclatur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37" name="Picture 4" descr="linnaeus"/>
          <p:cNvPicPr/>
          <p:nvPr/>
        </p:nvPicPr>
        <p:blipFill>
          <a:blip r:embed="rId1"/>
          <a:stretch/>
        </p:blipFill>
        <p:spPr>
          <a:xfrm>
            <a:off x="6248520" y="2057400"/>
            <a:ext cx="2508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04:19:25Z</dcterms:created>
  <dc:creator>Cheryl Massengale</dc:creator>
  <dc:description/>
  <dc:language>en-US</dc:language>
  <cp:lastModifiedBy>dzahm</cp:lastModifiedBy>
  <dcterms:modified xsi:type="dcterms:W3CDTF">2013-10-17T11:39:11Z</dcterms:modified>
  <cp:revision>97</cp:revision>
  <dc:subject/>
  <dc:title>15-1 The Puzzle of Life’s Diversity</dc:title>
</cp:coreProperties>
</file>